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019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019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Identify Ways to Maintain a Positive Attitud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-minded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 you are open to new ideas and you are free from prejudice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ing your actions and feel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1936800" cy="190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486400" y="3809880"/>
            <a:ext cx="1901880" cy="1990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e of Hu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ility to laugh with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38280" y="3276720"/>
            <a:ext cx="3810240" cy="2543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en sense of what to say or do to avoid offending some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ic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ility to control the tone and volume of your 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86200" y="3124080"/>
            <a:ext cx="1517760" cy="2708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a Positive Att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ing a capacity for vigorous activity toward a positive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 the process of doing something posi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positive action instead of wasting time complaining about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in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referred to as “the power of positive think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thinking helps elevate your mood, which helps make better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a Positive Attitude, co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mun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people to present ideas with confidence saying positive compliments and speaking in a friendly man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s having a good opinion of your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lists of your abilities and suc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 reachable go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about the positive impact you have on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on improving your ab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thusiast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an eager inter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ptimist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positive outl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At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as a positive attitude helped make situations more f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, turned a negative situation into a positive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, elevated moods, helped 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more effectively, or helped make better deci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ze traits of a positive attit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e how to build a positive attit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ze student attitudes in case stu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t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husia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-mind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of hu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a group. . 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and list what traits a person with a positive attitude must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24080" y="3809880"/>
            <a:ext cx="2895840" cy="1765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traits help develop a positive attitu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te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l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-mind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e of h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S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practical jud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67280" y="2895480"/>
            <a:ext cx="2438640" cy="3657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te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polite behavior and good man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10080" y="312408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being happy and energetic. In most careers, you will need to sell something; show enthusiasm in everything you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9880" y="3733920"/>
            <a:ext cx="1779840" cy="2666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l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kind and help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19720" y="3886200"/>
            <a:ext cx="3752640" cy="1560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0:14:44Z</dcterms:created>
  <dc:creator/>
  <dc:description/>
  <dc:language>en-US</dc:language>
  <cp:lastModifiedBy>cybermate</cp:lastModifiedBy>
  <dcterms:modified xsi:type="dcterms:W3CDTF">2009-03-04T11:36:08Z</dcterms:modified>
  <cp:revision>9</cp:revision>
  <dc:subject/>
  <dc:title>Identify Ways to Maintain a Positive Attitude</dc:title>
</cp:coreProperties>
</file>